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37902-AD7E-478D-9409-F8CEB54AC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18117-3BF0-4FEF-B62E-87B5F0888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D0FE5-6D77-4A54-B944-0C3114C22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E7881-FE03-45BF-AD4F-1188207EF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C16B2-6C5C-46EF-9314-13AE8B36D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30BF3-3F78-460F-AADF-25F1B295E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72757-CFD4-4401-A597-E9ADFEFA5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1CAE8-F84C-49AA-B9B3-5FC99D066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54CCF-FB4F-4708-AD47-65BEAF178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0468C-8382-4C8C-A0C2-9E72211F5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49EED-7BBB-41EC-BF4F-A94B163EC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4BF8D-EFF3-49DF-93D7-5CDD7FC8F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2462C-4A50-4F99-977A-D5D4EB816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E2625-FD52-4478-B2AC-DDCB786C3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3D5F8-B4FC-4FF8-BF5E-8E5DDC046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505FB-1CBF-488B-B8FA-825DC6C68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DE6E9-0E61-4A02-AD7C-F8E0A39FF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E4A21-734B-4337-8473-DF5D41395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FEF2E-E006-4EBB-B61F-1711E0903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F12DA-4F25-4CCD-A377-EFE9D18EA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8A349-8C16-4FE5-9ED5-9F5369494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4DC13-21C5-477F-B8F1-D91FEF457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F705F-F022-47FD-828C-0B87F4FCE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ADFAE-9267-4D2F-B0F5-7253F19F5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5B78F-217A-4E94-9530-E177C4398945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F5BE8-2371-43FC-B472-ADECD2E9284B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brycchancarey.com/equiano/biog.htm" TargetMode="External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Tahoma"/>
              </a:rPr>
              <a:t>Olaudah Equiano</a:t>
            </a: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3706920" y="3886200"/>
            <a:ext cx="172872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Lightning Summar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orn to a chief in the Kingdom of Benin, Guinea in 1745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bducted along with his sister at the age of 11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itnessed brutality and inhumanity of slave trade from West Africa to West Indi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as bought in Virginia by an officer in the Royal Navy, Michael Pascal, in 1754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iven the name Gustavus Vassa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ived and traveled abroad and aboard ships, venturing to the West Indies, Canada, England, American colonies, and Nicaragua (no particular order).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Summary Continued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aptized in Carolina, told he would not go to heaven otherwis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earned to read and writ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ought freedom in 1766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raveled to England, worked as a hairdresser and voyaged at sea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Joined with other abolitionists (Granville Sharp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rote autobiography, 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The Interesting Narrative of the Life of Olaudah Equiano, Or Gustavus Vassa, The African. Written by Himself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ecame a best seller and first of its kind, a narrative written by a slav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nglish slave trade abolished 10 years later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As it applies to the Constitu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quiano’s narrative was well known as best seller, being made into 9 edition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t raised awareness of the brutalities that occurred in the slave trad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presentation from southern states was given a boost in the “Great Compromise” counting each slave as 3/5 of a man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s boost in representation delayed the prohibition of the slave trade and allowed slave owners to reclaim escaped slaves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ach state was allowed to decide on slavery for themselves, Vermont being the first to abolish slavery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Equiano Naysayer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irthplace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 written reference of Equiano, only Gustavus Vass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imeline/age in ques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$Book sales$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Not so fast my friend!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ll accounts are supported by other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ery specific details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Questionable ages and dates not unheard of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orst case scenario: First-hand accounts from others Equiano encountere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ivid stories hard to disprove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Books for considera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762120" y="1981080"/>
            <a:ext cx="4038480" cy="36403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5181480" y="2057400"/>
            <a:ext cx="36576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Resources Aplenty!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BS: This Far By Fait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ttp://www.pbs.org/thisfarbyfaith/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ttp://www.pbs.org/thisfarbyfaith/people/olaudah_equiano.htm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ttp://www.pbs.org/thisfarbyfaith/timeline/p_1.htm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BS: Africans in Americ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ttp://www.pbs.org/wgbh/aia/home.htm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ttp://www.pbs.org/wgbh/aia/part1/1p276.htm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Brycchan Care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66"/>
                </a:solidFill>
                <a:uFillTx/>
                <a:latin typeface="Tahoma"/>
                <a:hlinkClick r:id="rId1"/>
              </a:rPr>
              <a:t>http://www.brycchancarey.com/equiano/biog.ht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Full Tex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ull Version Volume 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ttp://docsouth.unc.edu/neh/equiano1/menu.htm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ull Version Volume 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ttp://docsouth.unc.edu/neh/equiano2/menu.htm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anover Historical Texts Project (Whole Text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ttp://history.hanover.edu/texts/equiano/equiano_contents.htm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ashington State University (Overview and Excerpts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ttp://www.wsu.edu:8080/~wldciv/world_civ_reader/world_civ_reader_2/equiano.htm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ttp://www.brycchancarey.com/equiano/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8T03:33:35Z</dcterms:created>
  <dc:creator>DeVeaux</dc:creator>
  <dc:description/>
  <dc:language>en-US</dc:language>
  <cp:lastModifiedBy>Lakeview School District</cp:lastModifiedBy>
  <dcterms:modified xsi:type="dcterms:W3CDTF">2009-01-28T13:37:01Z</dcterms:modified>
  <cp:revision>5</cp:revision>
  <dc:subject/>
  <dc:title>Olaudah Equiano </dc:title>
</cp:coreProperties>
</file>